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41A-BE4B-4517-94D5-2241B1C1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7BC-FDC8-4DF9-AFF5-8895A0E5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777-7F8C-43E2-950C-622AF844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FDF-0E11-4D76-A730-8ACDCCF2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461-5A4E-4ABC-8831-1728AE1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5C1-A54C-4F3F-9C69-4FAFB3AE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700-BB20-478B-B1D1-D46F71A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77C-9149-4E26-86A0-B43647B8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0D0-789D-402D-AF4D-538FA57A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B18-BF32-4C18-824B-E7C3D7B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AB2-57DC-44A0-BF74-DA7592F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CBC-B82B-4FB9-B80A-85DA00A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783-1FD9-4718-9E04-A9666EF4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s.riverdale.k12.or.us/~dthompso/exhib_03/jasonc/music_affects_on_the_human_body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PUMP IT UP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6a8"/>
                </a:solidFill>
                <a:latin typeface="Bodoni SvtyTwo OS ITC TT-BookIt"/>
              </a:rPr>
              <a:t>~Kendrah Pay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8</a:t>
            </a:r>
            <a:r>
              <a:rPr b="0" lang="en-US" sz="2000" spc="-1" strike="noStrike" baseline="30000">
                <a:solidFill>
                  <a:srgbClr val="00cc66"/>
                </a:solidFill>
                <a:latin typeface="Monotype Corsiva"/>
              </a:rPr>
              <a:t>th</a:t>
            </a: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 Grade girls and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G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op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Rap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Metal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unk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Country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Slow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K-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Monotype Corsiva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y will have partners and the partners I gave them will watch the testers to see how many laps, jumping jack, crab walk exc..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y will start out by Running - 1min</a:t>
            </a:r>
            <a:br>
              <a:rPr sz="1800"/>
            </a:b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sh ups – 1m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umping jacks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unches - 1m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ephants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ab Walk – 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r Walk – 1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ick Tok ~ Ke$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Drive ~ Incu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Marianas Trench ~ Celebrity St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nives and Pens ~ Black Veil B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I Die Young ~ The Band P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nz ~ New Bo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ello ~ SHI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iner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iner Hand ITC"/>
              </a:rPr>
              <a:t>Music VS No 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endant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in per work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ontrolled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orkou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s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cc00"/>
                </a:solidFill>
                <a:latin typeface="Arial"/>
              </a:rPr>
              <a:t>Brea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with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Fax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Running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   Pushups 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Lucida Fax"/>
              </a:rPr>
              <a:t>   Jumping-J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Fax"/>
              </a:rPr>
              <a:t>Taryn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37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Lucida Fax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Fax"/>
              </a:rPr>
              <a:t>Dylan </a:t>
            </a:r>
            <a:r>
              <a:rPr b="0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42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Lucida Fax"/>
              </a:rPr>
              <a:t>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Lucida Fax"/>
              </a:rPr>
              <a:t>Shandi</a:t>
            </a:r>
            <a:r>
              <a:rPr b="0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4.5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37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Lucida Fax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Lucida Fax"/>
              </a:rPr>
              <a:t>Jacob</a:t>
            </a:r>
            <a:r>
              <a:rPr b="0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4.5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24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33cccc"/>
                </a:solidFill>
                <a:latin typeface="Lucida Fax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Lucida Fax"/>
              </a:rPr>
              <a:t>Hailey</a:t>
            </a:r>
            <a:r>
              <a:rPr b="0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5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28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unche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   Elephant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ab-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Bea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Walks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Hoefler Text"/>
              </a:rPr>
              <a:t>Crawl</a:t>
            </a:r>
            <a:r>
              <a:rPr b="1" lang="en-US" sz="1600" spc="-1" strike="noStrike">
                <a:solidFill>
                  <a:srgbClr val="660033"/>
                </a:solidFill>
                <a:latin typeface="Hoefler Tex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Lucida Fax"/>
              </a:rPr>
              <a:t>Taryn</a:t>
            </a:r>
            <a:r>
              <a:rPr b="0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173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25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      -- 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Lucida Fax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--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Fax"/>
              </a:rPr>
              <a:t>Dylan</a:t>
            </a:r>
            <a:r>
              <a:rPr b="0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151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18 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      2 1/3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Lucida Fax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Lucida Fax"/>
              </a:rPr>
              <a:t>Shandi</a:t>
            </a:r>
            <a:r>
              <a:rPr b="0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176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19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        --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Lucida Fax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Lucida Fax"/>
              </a:rPr>
              <a:t>Jacob</a:t>
            </a:r>
            <a:r>
              <a:rPr b="0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115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22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        2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Lucida Fax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Lucida Fax"/>
              </a:rPr>
              <a:t>Haily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120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12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        2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7097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Without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Running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Pushups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Jumping-J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yla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/34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Jacob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3 3/4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35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Hailey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27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runches          Elephants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Crab-Walks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Bear-Cra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yla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Jacob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71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Hailey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92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   1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Lucida Fax"/>
              </a:rPr>
              <a:t>3</a:t>
            </a:r>
            <a:r>
              <a:rPr b="1" lang="en-US" sz="2000" spc="-1" strike="noStrike">
                <a:solidFill>
                  <a:srgbClr val="6600ff"/>
                </a:solidFill>
                <a:latin typeface="Lucida Fax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5440" y="38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Fax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I was righ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Music does help you while you work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a Lisa Solid ITC 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 Lisa Solid ITC TT"/>
              </a:rPr>
              <a:t>Because you get into a rhythm and you have mo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y Proj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ecided to a do an experiment with music because I LOVE MUS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thought… Does music really effect while you work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3683160"/>
            <a:ext cx="3174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ebruary 16</a:t>
            </a:r>
            <a:r>
              <a:rPr b="0" lang="en-US" sz="3200" spc="-1" strike="noStrike" baseline="30000">
                <a:solidFill>
                  <a:srgbClr val="ff3399"/>
                </a:solidFill>
                <a:latin typeface="Arial"/>
              </a:rPr>
              <a:t>t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ebruary 23</a:t>
            </a:r>
            <a:r>
              <a:rPr b="0" lang="en-US" sz="3200" spc="-1" strike="noStrike" baseline="30000">
                <a:solidFill>
                  <a:srgbClr val="ff3399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1648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Showcard Gothic"/>
              </a:rPr>
              <a:t>Thanks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ank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rs. Riff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for letting me 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down and use the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ank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iley, Jacob, Shandi, Dylan, Tar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81880" y="3905280"/>
            <a:ext cx="2562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omic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ivestrong.com/article/25684-music-affect-exercise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le.com/aricles/effects-of-music-on-the-mind-and-bra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s.uga.edulpubs.curron/facs01-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s.riverdale.k12.or.us/~dthompso/exhib_03/jasonc/music_affects_on_the_human_body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oveshar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not been recently studied but a British professor tested 12 college men. He had them ride a bike with different music each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can motivate you to get up and be active and feeling of fati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about music connected with the b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8f6a8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It increases the Serotonin levels 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helps brain functions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Listening to music helps you work harder and stay on track.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you stay at a steady pac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you stay way from other distractions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lps the Wave patters and functions in the brain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Be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Alph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The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( Delta Waves)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With Music it speeds our brain waves 60beats/min</a:t>
            </a:r>
            <a:br>
              <a:rPr sz="1600"/>
            </a:br>
            <a:r>
              <a:rPr b="0" lang="en-US" sz="1600" spc="-1" strike="noStrike">
                <a:solidFill>
                  <a:srgbClr val="f8f6a8"/>
                </a:solidFill>
                <a:latin typeface="Maiandra GD"/>
              </a:rPr>
              <a:t>- </a:t>
            </a: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Helps Our body with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Heart Rat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reathing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lood Pressure 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Body Temperature</a:t>
            </a:r>
            <a:br>
              <a:rPr sz="1600"/>
            </a:br>
            <a:r>
              <a:rPr b="1" lang="en-US" sz="1600" spc="-1" strike="noStrike">
                <a:solidFill>
                  <a:srgbClr val="f8f6a8"/>
                </a:solidFill>
                <a:latin typeface="Maiandra GD"/>
              </a:rPr>
              <a:t>- muscle spa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376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cc00"/>
                </a:solidFill>
                <a:latin typeface="Arial"/>
              </a:rPr>
              <a:t>I say we should listen to music while we work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3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cc00"/>
                </a:solidFill>
                <a:latin typeface="Arial"/>
              </a:rPr>
              <a:t>It helps our heart rate, breathing and we can go  work out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ary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a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ylan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Z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han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B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Jac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Lindsey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iley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rec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lonna MT"/>
              </a:rPr>
              <a:t>I think music will help you workou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lonna MT"/>
              </a:rPr>
              <a:t>Because it will make you want to do your best and get active. It helps stable heart and breathing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oefler Text"/>
              </a:rPr>
              <a:t>Possible Causes of Erro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hon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d not do there bes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r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ndi was g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yn was not allowed to d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oefler Text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red 30 sec into the work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wing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ck of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acted by s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28:41Z</dcterms:created>
  <dc:creator>STERLING  USD376</dc:creator>
  <dc:description/>
  <dc:language>en-US</dc:language>
  <cp:lastModifiedBy>USD376</cp:lastModifiedBy>
  <dcterms:modified xsi:type="dcterms:W3CDTF">2011-03-04T20:33:31Z</dcterms:modified>
  <cp:revision>10</cp:revision>
  <dc:subject/>
  <dc:title>Does Music help you work out OR No Music?</dc:title>
</cp:coreProperties>
</file>